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05130"/>
        <c:axId val="24687313"/>
      </c:barChart>
      <c:catAx>
        <c:axId val="54605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87313"/>
        <c:crosses val="autoZero"/>
        <c:auto val="1"/>
        <c:lblAlgn val="ctr"/>
        <c:lblOffset val="100"/>
        <c:noMultiLvlLbl val="0"/>
      </c:catAx>
      <c:valAx>
        <c:axId val="24687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05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2AF-1160-4005-A51E-361C82BE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6BC-21CB-482F-B84D-86860B7A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221-6241-41E5-A72B-E3DC0D11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CD0-9FD9-40A8-8782-DE0BD26A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749-877A-4499-9FE4-6785EDBF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B50-ED4E-48D4-96CD-2C46478B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211-6038-4166-A078-87884211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340-78E9-4F68-AD77-651F23DE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7F2-520F-4260-8155-514C1993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F8C-FB60-4FD4-AF7C-67CF0CF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71C-28AB-4E41-B032-15D437CF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5E1-2257-4EA0-A882-B3679065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6D487-B492-449A-8852-8837F89A21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