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053439"/>
        <c:axId val="85637730"/>
      </c:barChart>
      <c:catAx>
        <c:axId val="590534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37730"/>
        <c:crosses val="autoZero"/>
        <c:auto val="1"/>
        <c:lblAlgn val="ctr"/>
        <c:lblOffset val="100"/>
        <c:noMultiLvlLbl val="0"/>
      </c:catAx>
      <c:valAx>
        <c:axId val="856377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534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2E29-F1B5-42D8-ADD7-58D29DA0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9E8C-7534-4118-A9C6-E7554FE3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E87B-C1E4-409B-B514-7E154D72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26AB-2B5B-4930-A414-BA3BD66E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4461-192A-4982-8FD3-5A83AABE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2C7D-5B3A-4AC8-AA7C-E2928284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2BA9-EA78-4C4B-8A6C-22E50604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0DCB-C70A-4AC7-9990-A666BD62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955F-B028-4CBA-8CF7-91B33A38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4834-4BB8-448F-9A81-3630FC8E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9866-B498-4531-9385-515B0C7B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3FB8-33CA-4A26-806D-0135264F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CDAB7-983B-4C92-B2E8-05F08C3319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