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660580"/>
        <c:axId val="57649676"/>
      </c:barChart>
      <c:catAx>
        <c:axId val="676605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649676"/>
        <c:crosses val="autoZero"/>
        <c:auto val="1"/>
        <c:lblAlgn val="ctr"/>
        <c:lblOffset val="100"/>
        <c:noMultiLvlLbl val="0"/>
      </c:catAx>
      <c:valAx>
        <c:axId val="576496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6605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3721-1506-4A6D-B1FE-355399424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8FC6-1BA6-4AC9-8131-EA9E9B51C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C2B6-75C6-4189-A701-A2938A68C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23FC-33D5-4E47-BC32-D47A0D3A8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2FBF-1019-45F4-80F9-B30F129B3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85F0-F6ED-423E-B9A2-72CD80037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EDEE-A929-4772-9A33-65242F42C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F012-8DFF-4D45-9444-D07E89B5E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D604-F086-41FC-9E2D-FB6728918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D83B-F4EF-4330-8E01-88B78BE17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A07B-8585-45F4-AD2E-C3D995B4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6A14-08A8-476B-9479-D09A9E8E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6F3CFE-736F-49AF-ADD1-E333DAE0EFF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