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99442"/>
        <c:axId val="37062541"/>
      </c:barChart>
      <c:catAx>
        <c:axId val="83399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62541"/>
        <c:crosses val="autoZero"/>
        <c:auto val="1"/>
        <c:lblAlgn val="ctr"/>
        <c:lblOffset val="100"/>
        <c:noMultiLvlLbl val="0"/>
      </c:catAx>
      <c:valAx>
        <c:axId val="37062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99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267-5CBF-4A59-B265-7C84E62E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DD0-407C-4910-9548-E7F7E44D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A5D-8D41-4228-BB87-F2D32E71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8A7-633F-444D-AA45-B3A4A80D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412-5BA2-4813-AFA5-510531EE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E36-DDC7-4E97-8B9C-E44B57C7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8BF-5BDA-4B9B-8307-ACD273C1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669-F9EB-430A-B090-94F90F0C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6CC-C2C8-4657-8D2D-B66CBE1C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C7E-2435-4DF2-B46D-1982BE5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698-6AE6-497B-86B3-B9F091D8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476-680B-485E-9683-4E0129FD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5D48C-37AB-469F-9B08-2E4AE7D0A3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