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654739"/>
        <c:axId val="56987392"/>
      </c:barChart>
      <c:catAx>
        <c:axId val="116547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87392"/>
        <c:crosses val="autoZero"/>
        <c:auto val="1"/>
        <c:lblAlgn val="ctr"/>
        <c:lblOffset val="100"/>
        <c:noMultiLvlLbl val="0"/>
      </c:catAx>
      <c:valAx>
        <c:axId val="569873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547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55C-4BD7-4646-BCA9-A1A8C464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9D52-6728-47FE-934C-5428BCA9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375D-4692-410A-A6F8-1BBC750B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9104-8A9C-4EAE-9741-D1BC44B3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DFF6-113A-452F-87EC-274A0AAB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2C0-53AC-45E3-B155-CB6993EE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6C5-4C52-4384-AE05-AB267052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6E72-2444-4742-BEB0-478F6A4E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815-194A-472B-9B63-77C85922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823-3C6F-4F0F-9DE8-61E31065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5B6-8D6D-4709-B7E5-33B5D5C5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A246-B22E-4C0D-AABC-EC32DACF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33006-C67F-4833-8D72-5EE45CCEA4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