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67933"/>
        <c:axId val="71358049"/>
      </c:barChart>
      <c:catAx>
        <c:axId val="90367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58049"/>
        <c:crosses val="autoZero"/>
        <c:auto val="1"/>
        <c:lblAlgn val="ctr"/>
        <c:lblOffset val="100"/>
        <c:noMultiLvlLbl val="0"/>
      </c:catAx>
      <c:valAx>
        <c:axId val="71358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67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CC0-5E8B-435F-84CB-9CB88331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CA3-0177-4B18-85B7-B1726057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8A2-CC2D-4DFF-A3E4-0F64E9C8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0D83-25C8-44EE-B094-13C79AF7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934-07AD-4C88-9452-80A5A614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CAE-04A8-47EE-BC60-84727F4B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9BF-9586-4F96-9A6E-D3D3FCD1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AC2-DE45-4074-A2A5-E8458775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7DD-508F-413C-A654-A81B8B83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120-4C15-4711-8E2E-603C80A4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58E-02BC-4E92-871A-34EAF1DA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38F-6951-4B46-BD8B-97AA0E67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76E8D-BFFB-40F1-8CF8-593A3EFE79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