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6717"/>
        <c:axId val="94726613"/>
      </c:barChart>
      <c:catAx>
        <c:axId val="8966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6613"/>
        <c:crosses val="autoZero"/>
        <c:auto val="1"/>
        <c:lblAlgn val="ctr"/>
        <c:lblOffset val="100"/>
        <c:noMultiLvlLbl val="0"/>
      </c:catAx>
      <c:valAx>
        <c:axId val="94726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6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24C-BE3E-4B03-984C-B12AA33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598-6609-4B27-90D7-2E7D9F0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ECF-5B82-4AB2-B676-82E5A8D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EAB-72B4-4174-9BA9-3B2CEBFE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8B0-5628-41A9-BCDE-6CB98F1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B53-F056-4878-963B-EE17CD6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074-DE2B-4B20-851B-768CAC1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359-15B5-4E6D-A2ED-C1AD2D1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DB8-EFDA-47EC-83BE-6453249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AB0-DD38-423F-953B-B61DA85A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17B-3142-4D69-97F6-26902D9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2BE-F9AA-4D41-848D-2C3F93F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44052-BD84-4B60-A14C-22EDD7E77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