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17942"/>
        <c:axId val="15695024"/>
      </c:barChart>
      <c:catAx>
        <c:axId val="77417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95024"/>
        <c:crosses val="autoZero"/>
        <c:auto val="1"/>
        <c:lblAlgn val="ctr"/>
        <c:lblOffset val="100"/>
        <c:noMultiLvlLbl val="0"/>
      </c:catAx>
      <c:valAx>
        <c:axId val="15695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7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6B4-2CCD-4A58-B334-4FB4D688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0BF-03FD-4ED0-A2C8-81AB33A3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945-E869-446E-840C-22FFEBBF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137-F08C-4D0A-986B-357B192D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380-CEAD-4063-B038-28E936F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88C-543A-4F5D-B048-AAA9F1F4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39F-AA9D-4315-80BA-1E282754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B27-CA8D-4668-825F-64C41DCE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71B-9B25-4599-823C-E1288AF0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AEF-ACBF-4E84-845B-4D67E41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0CD-F572-415D-992C-7E27ED2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1A7-0A2E-45DC-8F28-D62F6BB1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5A619-8B63-4E38-B980-41980DBB2B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