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25267"/>
        <c:axId val="74440791"/>
      </c:barChart>
      <c:catAx>
        <c:axId val="86825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40791"/>
        <c:crosses val="autoZero"/>
        <c:auto val="1"/>
        <c:lblAlgn val="ctr"/>
        <c:lblOffset val="100"/>
        <c:noMultiLvlLbl val="0"/>
      </c:catAx>
      <c:valAx>
        <c:axId val="74440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5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8BE-AA34-4FEC-8CD6-6A9D4065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716-00A3-4CD0-9F4D-73672661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6B4-153C-43AB-86E6-F7090200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13F-DC57-4DD0-8691-8F9F88B7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BB3-43E7-46C6-820D-EE110B71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451-894A-488D-A4C0-B0C22AAF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8B3-7A27-40D1-B785-5317E642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1D4-2C7A-49B6-B39D-EC68CB24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621-9753-4A5A-AA1B-94E26472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85A-6E8D-4906-8E40-808543B0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EC7-A877-4802-B297-3B6E9860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8C5-0F19-4E4A-8051-05DB65FF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A7798-F81F-4DAC-BE83-9B06F9CFC2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