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23981"/>
        <c:axId val="38226584"/>
      </c:barChart>
      <c:catAx>
        <c:axId val="76523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26584"/>
        <c:crosses val="autoZero"/>
        <c:auto val="1"/>
        <c:lblAlgn val="ctr"/>
        <c:lblOffset val="100"/>
        <c:noMultiLvlLbl val="0"/>
      </c:catAx>
      <c:valAx>
        <c:axId val="382265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23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AB6-2805-4FA2-AF22-70C0E5D8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5E2F-0A56-4291-ABD5-16CD6E96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858-EC86-431A-8C71-75CEE0DB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4B5F-5B5F-45B7-A85C-A558A56F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81F4-34C2-4183-A296-3635B5F6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990-0B54-4A30-A86B-943781A8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B98-7309-4E9D-868A-E54FBAFD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2EFE-1EE7-4153-BC67-9F4DCE13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25BD-0330-4E25-90A1-954D455D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640-69FA-4008-A669-A443E45E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6C45-1704-4893-AEE8-1AEFFED6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7846-D2DA-4428-BCC6-58F9EC01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C3CF2-87EF-419D-AA89-0EC4CB2B17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