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11305"/>
        <c:axId val="4600559"/>
      </c:barChart>
      <c:catAx>
        <c:axId val="55911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0559"/>
        <c:crosses val="autoZero"/>
        <c:auto val="1"/>
        <c:lblAlgn val="ctr"/>
        <c:lblOffset val="100"/>
        <c:noMultiLvlLbl val="0"/>
      </c:catAx>
      <c:valAx>
        <c:axId val="4600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11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4A8-97FC-4E16-94D7-2DD21FA0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EF3-71FA-4DAE-B417-1B44DBB2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CE3-D497-466E-B732-584A94D1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ECD-16FA-421A-A2CE-BA4E883C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C29-8E5D-423A-9E76-2F650A69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1E4-1BBD-4E0B-B5FA-07FDA574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3CD-CF97-4048-B570-FBD197EC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F7C-693B-4871-92A8-85321B43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03D-16CC-4FD6-B707-6F2AF205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FD3-B781-4977-8BCD-D1281666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557-04FD-41EB-9B55-8DFCA8CD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6F9-1F2E-4C21-A6E6-BAE6D53A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A52DE-F29E-483B-8F7F-C068850A3F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