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52574"/>
        <c:axId val="67064330"/>
      </c:barChart>
      <c:catAx>
        <c:axId val="95652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64330"/>
        <c:crosses val="autoZero"/>
        <c:auto val="1"/>
        <c:lblAlgn val="ctr"/>
        <c:lblOffset val="100"/>
        <c:noMultiLvlLbl val="0"/>
      </c:catAx>
      <c:valAx>
        <c:axId val="67064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52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E2B-957D-4B3C-9D4F-DAF9039D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BB2-545E-434F-8163-57C0BB98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163-627A-4AAC-8C41-D9A1E5DB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DC5-9205-476E-96E0-47BAC3EC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86C-4820-479F-B666-D5431884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4AA-0AE5-4883-B232-2961E5B9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BFA-8DE5-432D-8F35-E651BAD1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1FA-CC8D-4C86-9CE6-C91F2033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DE8-E96E-4F7E-8704-174341CC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B06-62B6-42F3-A4F3-E88D29DA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E1F-6C8D-42F1-AF92-4EAAD0CA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478-1974-47AA-BB24-2D70097E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3AC82-0691-419E-AFF8-AB25B257DD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