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257045"/>
        <c:axId val="75560112"/>
      </c:barChart>
      <c:catAx>
        <c:axId val="472570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60112"/>
        <c:crosses val="autoZero"/>
        <c:auto val="1"/>
        <c:lblAlgn val="ctr"/>
        <c:lblOffset val="100"/>
        <c:noMultiLvlLbl val="0"/>
      </c:catAx>
      <c:valAx>
        <c:axId val="755601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570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7276-7C70-40AB-A3CE-D0CE40D75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8F19-3740-4CF3-8E8B-44E81081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2457-C282-4319-921A-42C3A082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5109-179A-49C5-9315-E76EA4C1D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423C-37A3-4D71-889E-8EEB40C5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0016-A2B6-4798-A189-F1B23BD6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3227-49F4-4165-924D-7AF3EB83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F7E6-B278-4C77-86E5-D4DE281F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D4E3-4698-4AD6-89DA-45BAE28D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F0D2-55A8-4F27-89F7-12A32AA5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AC64-5D4A-4457-9619-F2C66E9E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5554-37D2-4772-866B-0A705D31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9A095-4970-4C5F-A927-F224A001FC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