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683921"/>
        <c:axId val="90576296"/>
      </c:barChart>
      <c:catAx>
        <c:axId val="396839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76296"/>
        <c:crosses val="autoZero"/>
        <c:auto val="1"/>
        <c:lblAlgn val="ctr"/>
        <c:lblOffset val="100"/>
        <c:noMultiLvlLbl val="0"/>
      </c:catAx>
      <c:valAx>
        <c:axId val="905762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839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102C-ACCD-4815-89D6-2F376260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C2C-48FF-4D22-810E-A9F27E9B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81EF-FAC9-49BA-BA6F-643B2953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6EA-C9CD-448E-93B6-EA98951A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7968-3DD3-43B0-930A-FAA2C6A0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898D-BEBB-48CA-8C84-342A013B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D28D-042D-4753-8C80-A1930697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315-01CD-46F3-A0E0-072B5810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A8B6-4DEF-495A-8F6A-B1862E06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901-148E-4CEE-A826-690B067D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97C4-E4E5-40CC-B942-EA20C155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DBD7-2148-40E0-95C3-0417F3FD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F5AAA-777D-4C91-A622-804309EB87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