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70653"/>
        <c:axId val="78290243"/>
      </c:barChart>
      <c:catAx>
        <c:axId val="45770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90243"/>
        <c:crosses val="autoZero"/>
        <c:auto val="1"/>
        <c:lblAlgn val="ctr"/>
        <c:lblOffset val="100"/>
        <c:noMultiLvlLbl val="0"/>
      </c:catAx>
      <c:valAx>
        <c:axId val="78290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70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2D7-F67B-4693-A625-722BD4DC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201-2912-4D9D-A227-7A89F2A1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647-D696-4494-8D40-A208F8E5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C77-9AAA-4865-BB5D-A7729368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EE3-3EC7-4EEF-B21C-89511FB7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1D1-29C3-493A-B064-A816FE8E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B44-83BA-40CB-9E6B-6F451EF6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205-B761-44FD-9061-98FE6BF7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488-C2BA-4F27-98CC-66581E3F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E9A-1E2A-404C-BCA4-F7EFF765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24A-247D-4B36-958D-050296E1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B851-7736-47EC-A488-D57B3622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C35E3-F6CB-461E-AFA0-4742BE386D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