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42880"/>
        <c:axId val="79673041"/>
      </c:barChart>
      <c:catAx>
        <c:axId val="83428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673041"/>
        <c:crosses val="autoZero"/>
        <c:auto val="1"/>
        <c:lblAlgn val="ctr"/>
        <c:lblOffset val="100"/>
        <c:noMultiLvlLbl val="0"/>
      </c:catAx>
      <c:valAx>
        <c:axId val="796730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428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CBA5-58E2-4B31-A039-1F752B544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6C3A-EE1A-4A82-8889-A39B6E9CB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8FB1-4055-4660-ABC2-BE81BD5C1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1E2B-CC91-41BB-ABE8-69611D548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6D0D-779B-47BB-A152-3A562E7F2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F489-E519-43DA-AB05-C848ACB2F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D094-FC51-4703-80E7-5120AF856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6CA1-2525-4976-954B-618B01432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72A2-AF9F-4099-ACED-4B314C4E1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051A-FC0B-4553-ABB3-17649697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2BA3-9376-4448-A3A2-CB0029CE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02D7-D94A-4BD2-BD66-03882803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D7000E-44F0-4AB2-9788-D9EF4FA2637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