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07587"/>
        <c:axId val="55800919"/>
      </c:barChart>
      <c:catAx>
        <c:axId val="12007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00919"/>
        <c:crosses val="autoZero"/>
        <c:auto val="1"/>
        <c:lblAlgn val="ctr"/>
        <c:lblOffset val="100"/>
        <c:noMultiLvlLbl val="0"/>
      </c:catAx>
      <c:valAx>
        <c:axId val="55800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07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68F-E81A-4FE3-8E03-0DEC33CC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078-609D-473B-BEB0-EEFA519B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758-2F7D-4989-A61F-A7A79E04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600-D8F7-46F9-8DB1-7635D845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208-CE6B-42EA-8877-D686D19B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9E4-91C0-46ED-9777-963A0679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344-E008-4CEF-805C-D96B4DCC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3B4-A13F-4800-BC2B-49EB5F3A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3BD-79E0-48C3-944A-AC6CBB5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A5F-6A45-4ED0-912B-C5AC703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571-D3ED-4FCB-B489-E8D19E0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CE9-5C8F-4F2C-A4B1-57FA404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ABDEC-9AA4-4A3C-885B-CAC9BE06CF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