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70883"/>
        <c:axId val="76820276"/>
      </c:barChart>
      <c:catAx>
        <c:axId val="48970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20276"/>
        <c:crosses val="autoZero"/>
        <c:auto val="1"/>
        <c:lblAlgn val="ctr"/>
        <c:lblOffset val="100"/>
        <c:noMultiLvlLbl val="0"/>
      </c:catAx>
      <c:valAx>
        <c:axId val="76820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70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446-501A-474A-98FD-45E872A7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CECB-70FB-4E61-B365-62345B9B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4233-E8B7-4E87-A9E0-184CE766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83F6-EF29-4409-B12A-4F98445C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9F6-90DE-49A9-89D3-50CE44D4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BDB-8607-4B35-8ECF-6D890850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E5D-F752-43D8-8F0E-6EEE2D92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723-E7F8-4BE7-A11A-BB2FB803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FA2-7F82-4F36-8CCE-E12479B0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EE0-51DE-4AC9-8969-0005C110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A12-ABB4-47BD-A9F4-2804DCD0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808-1EC8-4D38-94B9-C2136A84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E2B76-0677-44C8-9C75-DB4B321BBB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