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71100"/>
        <c:axId val="62570402"/>
      </c:barChart>
      <c:catAx>
        <c:axId val="36171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70402"/>
        <c:crosses val="autoZero"/>
        <c:auto val="1"/>
        <c:lblAlgn val="ctr"/>
        <c:lblOffset val="100"/>
        <c:noMultiLvlLbl val="0"/>
      </c:catAx>
      <c:valAx>
        <c:axId val="62570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71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99C-1D07-4450-A1A8-4B053C8B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102-E4E2-4DAB-AA67-CD52A0C7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AEF-C068-4815-A070-952AB589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795-7430-4961-8C76-6BF15E04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DD1-61B6-4D69-B7E5-D126670C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DEB-8586-4FB5-B1FF-97D2E34F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1A9-4EF0-44A9-BACB-B476ED4C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4E4-C5E2-422E-931C-5C9FB860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908-3580-462B-99BC-19607388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09A-6028-4E24-942E-5B8FE5B7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E4F-10A1-4D01-A312-714F91DD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CBD-7B77-4694-8126-8B367A44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C4C5E-BEEA-49DB-BA2B-20186A1448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