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421068"/>
        <c:axId val="40676627"/>
      </c:barChart>
      <c:catAx>
        <c:axId val="894210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676627"/>
        <c:crosses val="autoZero"/>
        <c:auto val="1"/>
        <c:lblAlgn val="ctr"/>
        <c:lblOffset val="100"/>
        <c:noMultiLvlLbl val="0"/>
      </c:catAx>
      <c:valAx>
        <c:axId val="406766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210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066D-F8A9-4F09-81A0-10F4DE424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74D7-BBC5-4B29-820D-922C9BFD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25F6-90CD-487A-A543-17383066D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F572-A0C3-4EE6-BFA6-CB6063E03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6A2E-AFFF-4154-8325-0BE456DF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0CB6-347B-4CFC-9672-5724CF3F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7386-FC03-41BE-B649-585950F6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4773-E7F3-4428-BDBF-7826DDAA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DA52-9701-4B60-9817-E7E988FB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5014-EA86-4469-BB5A-AEFAB68B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7D8D-AB33-4B64-B086-1F7A9684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5293-BF5C-427D-BD26-559F1AEF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4BEFE-BEDA-4455-9870-9353837B78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