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33133"/>
        <c:axId val="14897439"/>
      </c:barChart>
      <c:catAx>
        <c:axId val="80733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97439"/>
        <c:crosses val="autoZero"/>
        <c:auto val="1"/>
        <c:lblAlgn val="ctr"/>
        <c:lblOffset val="100"/>
        <c:noMultiLvlLbl val="0"/>
      </c:catAx>
      <c:valAx>
        <c:axId val="14897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33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2F1-74DF-4251-9CAA-16F358E7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8E5-29FC-45EE-BA2C-179F6B12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AA9-7E3E-4635-8A2A-D5E8FC39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374-B82A-4ACD-B4EA-48EECEF8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743-1FF6-4B97-BA9D-FB482DFE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891-7F8A-4F51-89CC-6388269B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496-83CC-4140-89AD-8761CB9E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B0A-9C69-485A-96F4-FC65AFCF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A13-05B1-400A-8D78-F4B936E6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885-C683-4446-B51E-3533DC9D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C7D-BF43-4906-8710-FAD1E0EE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4F8-E7F8-41C8-B9F1-8E473859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B7ECE-6800-4B95-89D9-0BE66B2321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