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313464"/>
        <c:axId val="68273522"/>
      </c:barChart>
      <c:catAx>
        <c:axId val="113134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73522"/>
        <c:crosses val="autoZero"/>
        <c:auto val="1"/>
        <c:lblAlgn val="ctr"/>
        <c:lblOffset val="100"/>
        <c:noMultiLvlLbl val="0"/>
      </c:catAx>
      <c:valAx>
        <c:axId val="682735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134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E82F-3956-4B8B-A5AE-7FEB4002C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C91F-B02E-42CD-B32B-F80A9E01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2715-9FFD-4B0D-8C74-521E9560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C22B-A692-43FD-8E8C-AF475FED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8C4B-F79E-42E2-8923-DA30F0B2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7948-C541-499C-B886-1947440E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A10B-38F9-4FAC-868A-87DAB211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E3A4-637D-4AF5-A3B4-C6C5D926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17F-7C3D-4476-8A22-BB0ECB94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12A0-511A-4490-AAF9-3FC62A41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5258-5599-41A6-88C9-A62F4440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B414-F688-436B-8F31-EA67EF3E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64293-5AFB-4BBF-850D-1A8B7108D4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