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41318"/>
        <c:axId val="32522152"/>
      </c:barChart>
      <c:catAx>
        <c:axId val="61041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22152"/>
        <c:crosses val="autoZero"/>
        <c:auto val="1"/>
        <c:lblAlgn val="ctr"/>
        <c:lblOffset val="100"/>
        <c:noMultiLvlLbl val="0"/>
      </c:catAx>
      <c:valAx>
        <c:axId val="32522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41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181-1391-4A8F-8A93-1743E732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3C7-8F2A-42FC-9CAB-87C64DDE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A6F-2484-4EE0-B8E0-BAA3363F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492-9F2F-44F7-80F9-FEDDD6A1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5A1-6884-4239-889C-890B78D4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0DA-94CB-41F0-892F-CAD3AC62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EC2-695D-41E7-8425-067B9BFC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7A7-9FF9-4B49-874C-F6BE2371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54C-9321-4861-9312-C26D861B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AA1-487D-42CD-B8E1-30C6036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063-DD60-469F-BFD9-8FF8A6D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539-FF45-41E0-91A3-69FA6708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FE5E4-6F32-4E24-9A62-33E98F6CBC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