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78595"/>
        <c:axId val="24197158"/>
      </c:barChart>
      <c:catAx>
        <c:axId val="71278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97158"/>
        <c:crosses val="autoZero"/>
        <c:auto val="1"/>
        <c:lblAlgn val="ctr"/>
        <c:lblOffset val="100"/>
        <c:noMultiLvlLbl val="0"/>
      </c:catAx>
      <c:valAx>
        <c:axId val="24197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78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08F-CD14-43BD-B32F-0C376425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81A-7E47-4768-9A72-6627191F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417-AA3F-420C-949A-09CE3DE9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AF4-12C7-497D-9D9A-DF99C402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29C-8A38-4880-BAD8-17678EF7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A26-81CD-4670-B79A-D7FE00BA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9B5-1CBB-4E08-B2D7-DBD814FC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E68-E81E-48AE-AC41-59558D80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2BC-22DA-44E1-AD48-46AD5D7C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BDA-378A-401D-9169-7FF0A87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D2C-929E-40C9-93C5-90ABA642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F7D-ADE7-4CC5-86C1-F6443AE5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67047-B3A0-4C60-A2B5-E65DB40B45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