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193084"/>
        <c:axId val="19682124"/>
      </c:barChart>
      <c:catAx>
        <c:axId val="841930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682124"/>
        <c:crosses val="autoZero"/>
        <c:auto val="1"/>
        <c:lblAlgn val="ctr"/>
        <c:lblOffset val="100"/>
        <c:noMultiLvlLbl val="0"/>
      </c:catAx>
      <c:valAx>
        <c:axId val="196821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1930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D1C9-C219-489E-853B-F4E1CB859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6311-D39A-4030-8BB3-C6ED97C3B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C3F5-BE82-4A35-B2CC-ACF666F04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9527-8743-42AF-827A-1C5E0C290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08AB-C4B7-4316-9949-893252470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B01D-BA41-4A08-AD31-570493E85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DFE9-59E0-47C3-9927-9FE2AA52D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14B1-B97B-42B5-B4C4-B29656AF4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B8CA-1A18-44CB-9F08-F24CF4E67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EE31-C449-4B96-B8F6-CDFED2C02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CAD5-7431-4208-8248-8EA567A63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645C-12BF-4C90-A28E-36648F42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E29F4A-4B42-44CC-B5A5-F79C754664A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