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5974"/>
        <c:axId val="5974390"/>
      </c:barChart>
      <c:catAx>
        <c:axId val="4075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4390"/>
        <c:crosses val="autoZero"/>
        <c:auto val="1"/>
        <c:lblAlgn val="ctr"/>
        <c:lblOffset val="100"/>
        <c:noMultiLvlLbl val="0"/>
      </c:catAx>
      <c:valAx>
        <c:axId val="5974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5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6B4-F319-4048-9AAB-6094D9AF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020-2DB0-4ECC-A5A5-4A745778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CB6-52B3-4680-A47C-F0506941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4B7-2D9B-491C-AFA1-326FBC24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64C-3126-48F7-A805-5C1CCC35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113-54F4-4CB9-8341-2BA8E1A0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F18-0F53-4D57-A165-97E19CE3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79D-9F3F-4739-9748-608E8DE6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2D4-2816-430F-8B06-753BA72B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B6F-D5FF-49E9-81E6-86CAD006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00C-28E0-488C-92D1-3D8F5CE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A71-EBAA-43FA-8846-77EB776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E6693-4DEE-46CD-B823-1FD553AB1B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