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04642"/>
        <c:axId val="47171683"/>
      </c:barChart>
      <c:catAx>
        <c:axId val="85104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71683"/>
        <c:crosses val="autoZero"/>
        <c:auto val="1"/>
        <c:lblAlgn val="ctr"/>
        <c:lblOffset val="100"/>
        <c:noMultiLvlLbl val="0"/>
      </c:catAx>
      <c:valAx>
        <c:axId val="47171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04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69B-634C-4BAA-8E56-EFC5A992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848-BAD8-499E-B95D-2481F67E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FDA-02A9-4723-82DF-E1CCC878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2A6-844B-487D-8F28-DA8A16CD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B35-AAC0-461F-8C69-DC0CC421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C05-3C71-42EC-98C1-F10C4E37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70F-7E6B-4B55-8A7D-DDF76D42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DA9-0ED7-4A55-B440-461BADFE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39A-4640-4B5A-8ECA-03430E7E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7CD-CE08-4CB3-8C25-966B6B06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F36-2DE3-4543-8565-B97573F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FCD-05BC-427E-A173-297DF0D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35A36-B625-4D37-A37B-FDA61857BD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