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71567"/>
        <c:axId val="61645741"/>
      </c:barChart>
      <c:catAx>
        <c:axId val="874715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45741"/>
        <c:crosses val="autoZero"/>
        <c:auto val="1"/>
        <c:lblAlgn val="ctr"/>
        <c:lblOffset val="100"/>
        <c:noMultiLvlLbl val="0"/>
      </c:catAx>
      <c:valAx>
        <c:axId val="61645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715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5B4-C26B-4EC7-A06B-A6C45E83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DD31-4B13-4E15-A5C4-0500F4FA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06F-A586-4EC4-A0FE-64A5ECF1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7200-1DD1-41B1-A26F-315D2A4B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F324-5585-4D20-9807-6C863492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BF4-506E-4827-BDEA-1CD3540C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87A-9A21-4AB8-83A8-C6D4BBE8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A7E-E12D-4FA7-9860-A1DB2E18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800-0F6C-4E20-B88E-6B0B2C25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C30-A150-4F6D-8C06-3D64DE0C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9088-1A7E-48A3-8902-164FF9A8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2F6-8710-4F16-8EF0-E542A53C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1FBDE-04EC-4402-98E6-8A55866F7C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